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8D10-FEEC-46C3-88E9-60500F7F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0EC-D58F-4BE3-970F-246181AD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9F5-D2A0-457D-B996-527973F3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87A-6269-4F45-97D0-5D71BA3D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44F-9BEA-45D2-B520-A5940D82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9BB-9C01-4D82-84C1-76583170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009-FFF5-45B0-98AD-453D982B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8F4-F6AD-4305-B5DD-AF72E00D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4B7-5F15-4BBE-928E-7DD03B65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C95-FC6A-45F6-A876-072FDF7F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60B-5C19-420F-ACC9-37ACC3CF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EE3-0623-4C4A-9150-7039984A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6FAA-955B-4C06-8F88-EF04697FA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7861320" cy="168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2120" y="29322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2895480"/>
            <a:ext cx="2882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6960" y="4049640"/>
            <a:ext cx="28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of an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84440" y="501336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y value that makes the inequalit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862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16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14800" y="1752480"/>
            <a:ext cx="10666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2096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514600"/>
            <a:ext cx="2057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62920" cy="1822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1981080" cy="362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1460520" cy="35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52880" y="3200400"/>
            <a:ext cx="14097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116920" cy="787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0" y="16765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1240" y="341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3595680" cy="49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64960" y="1295280"/>
            <a:ext cx="8879040" cy="1067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3886200" cy="54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43434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65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8631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3:04:44Z</dcterms:created>
  <dc:creator>Graham</dc:creator>
  <dc:description/>
  <dc:language>en-US</dc:language>
  <cp:lastModifiedBy>Graham</cp:lastModifiedBy>
  <dcterms:modified xsi:type="dcterms:W3CDTF">2011-10-22T23:04:48Z</dcterms:modified>
  <cp:revision>1</cp:revision>
  <dc:subject/>
  <dc:title>Slide 1</dc:title>
</cp:coreProperties>
</file>